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6B9C-523F-47DC-958E-40D9F8EA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04D3-0D5C-40EA-B3A9-3F5BD785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99"/>
              </a:spcBef>
              <a:buClr>
                <a:srgbClr val="99cc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99"/>
              </a:spcBef>
              <a:buClr>
                <a:srgbClr val="0064a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spcBef>
                <a:spcPts val="799"/>
              </a:spcBef>
              <a:buClr>
                <a:srgbClr val="ebc57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spcBef>
                <a:spcPts val="799"/>
              </a:spcBef>
              <a:buClr>
                <a:srgbClr val="777777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99"/>
              </a:spcBef>
              <a:buClr>
                <a:srgbClr val="99cc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99"/>
              </a:spcBef>
              <a:buClr>
                <a:srgbClr val="0064a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spcBef>
                <a:spcPts val="799"/>
              </a:spcBef>
              <a:buClr>
                <a:srgbClr val="ebc57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spcBef>
                <a:spcPts val="799"/>
              </a:spcBef>
              <a:buClr>
                <a:srgbClr val="777777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ocs.google.com/document/d/18H_9nfS_K8a0x1BcYbzbQkytxSbhz03USxjWI78KeAw/edit" TargetMode="External"/><Relationship Id="rId2" Type="http://schemas.openxmlformats.org/officeDocument/2006/relationships/hyperlink" Target="http://wikispaces.com/" TargetMode="External"/><Relationship Id="rId3" Type="http://schemas.openxmlformats.org/officeDocument/2006/relationships/hyperlink" Target="http://ow.ly/25rWN" TargetMode="External"/><Relationship Id="rId4" Type="http://schemas.openxmlformats.org/officeDocument/2006/relationships/hyperlink" Target="http://www.blogger.com/" TargetMode="External"/><Relationship Id="rId5" Type="http://schemas.openxmlformats.org/officeDocument/2006/relationships/hyperlink" Target="http://sarahplainandtall.blogspot.com/" TargetMode="External"/><Relationship Id="rId6" Type="http://schemas.openxmlformats.org/officeDocument/2006/relationships/hyperlink" Target="http://www.evernote.com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H:/Summer%20Conference/2010/My%20Sessions/Effort_and_Achievement%20Rubric.pdf" TargetMode="External"/><Relationship Id="rId3" Type="http://schemas.openxmlformats.org/officeDocument/2006/relationships/hyperlink" Target="file:///H:/Summer%20Conference/2010/My%20Sessions/Effort%20Graph.pdf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udioboo.fm/" TargetMode="External"/><Relationship Id="rId2" Type="http://schemas.openxmlformats.org/officeDocument/2006/relationships/hyperlink" Target="http://www.voki.com/" TargetMode="Externa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lvm.usu.edu/en/nav/vlibrary.html" TargetMode="External"/><Relationship Id="rId2" Type="http://schemas.openxmlformats.org/officeDocument/2006/relationships/hyperlink" Target="http://cuacs8.mck.ncsu.edu/mathsampleitems/main.html" TargetMode="External"/><Relationship Id="rId3" Type="http://schemas.openxmlformats.org/officeDocument/2006/relationships/hyperlink" Target="http://www.geogebra.org/cms/" TargetMode="External"/><Relationship Id="rId4" Type="http://schemas.openxmlformats.org/officeDocument/2006/relationships/hyperlink" Target="http://www.learnalberta.ca/content/me5l/html/Math5.html" TargetMode="External"/><Relationship Id="rId5" Type="http://schemas.openxmlformats.org/officeDocument/2006/relationships/hyperlink" Target="http://www.ixl.com/" TargetMode="External"/><Relationship Id="rId6" Type="http://schemas.openxmlformats.org/officeDocument/2006/relationships/hyperlink" Target="http://reading.ecb.org/" TargetMode="External"/><Relationship Id="rId7" Type="http://schemas.openxmlformats.org/officeDocument/2006/relationships/hyperlink" Target="http://www.readwritethink.org/classroom-resources/student-interactives/" TargetMode="External"/><Relationship Id="rId8" Type="http://schemas.openxmlformats.org/officeDocument/2006/relationships/hyperlink" Target="http://www.magpo.com/kidspoetry/playonline.cfm" TargetMode="External"/><Relationship Id="rId9" Type="http://schemas.openxmlformats.org/officeDocument/2006/relationships/hyperlink" Target="http://www.fossweb.com/" TargetMode="External"/><Relationship Id="rId10" Type="http://schemas.openxmlformats.org/officeDocument/2006/relationships/hyperlink" Target="http://www.edheads.org/" TargetMode="External"/><Relationship Id="rId11" Type="http://schemas.openxmlformats.org/officeDocument/2006/relationships/hyperlink" Target="http://www.iknowthat.com/" TargetMode="External"/><Relationship Id="rId12" Type="http://schemas.openxmlformats.org/officeDocument/2006/relationships/hyperlink" Target="http://www.flashcardexchange.com/" TargetMode="External"/><Relationship Id="rId13" Type="http://schemas.openxmlformats.org/officeDocument/2006/relationships/hyperlink" Target="http://www.e-learningforkids.org/" TargetMode="Externa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ppst.com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animate.com/" TargetMode="External"/><Relationship Id="rId2" Type="http://schemas.openxmlformats.org/officeDocument/2006/relationships/hyperlink" Target="http://www.xtranormal.com/" TargetMode="External"/><Relationship Id="rId3" Type="http://schemas.openxmlformats.org/officeDocument/2006/relationships/hyperlink" Target="http://www.animoto.com/education" TargetMode="External"/><Relationship Id="rId4" Type="http://schemas.openxmlformats.org/officeDocument/2006/relationships/hyperlink" Target="http://earth.google.com/intl/en/" TargetMode="External"/><Relationship Id="rId5" Type="http://schemas.openxmlformats.org/officeDocument/2006/relationships/hyperlink" Target="http://www.googlelittrips.com/" TargetMode="External"/><Relationship Id="rId6" Type="http://schemas.openxmlformats.org/officeDocument/2006/relationships/hyperlink" Target="http://voicethread.com/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ncsu.edu/midlink/rub.mmproj.ht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dmodo.com/" TargetMode="External"/><Relationship Id="rId2" Type="http://schemas.openxmlformats.org/officeDocument/2006/relationships/hyperlink" Target="http://ow.ly/24VkX" TargetMode="External"/><Relationship Id="rId3" Type="http://schemas.openxmlformats.org/officeDocument/2006/relationships/hyperlink" Target="http://www.epals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it.ly/kwlchart" TargetMode="External"/><Relationship Id="rId2" Type="http://schemas.openxmlformats.org/officeDocument/2006/relationships/hyperlink" Target="http://ow.ly/25sJw" TargetMode="External"/><Relationship Id="rId3" Type="http://schemas.openxmlformats.org/officeDocument/2006/relationships/hyperlink" Target="https://docs.google.com/spreadsheet/ccc?key=0Ah64o68V2rj5dHBxY1V6Rk1ubm1nTXRNOVFGSWxnT1E&amp;authkey=CISR7O0B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tanley4thgradehardrockingwiki.wikispaces.com/-E-Data+Notebooks" TargetMode="External"/><Relationship Id="rId3" Type="http://schemas.openxmlformats.org/officeDocument/2006/relationships/hyperlink" Target="http://www.socrative.com/" TargetMode="External"/><Relationship Id="rId4" Type="http://schemas.openxmlformats.org/officeDocument/2006/relationships/hyperlink" Target="http://www.polleverywhere.com/" TargetMode="External"/><Relationship Id="rId5" Type="http://schemas.openxmlformats.org/officeDocument/2006/relationships/hyperlink" Target="http://www.wallwisher.com/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" TargetMode="External"/><Relationship Id="rId2" Type="http://schemas.openxmlformats.org/officeDocument/2006/relationships/hyperlink" Target="http://www.teach-nology.com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v_ScZYnsyw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dheads.org/" TargetMode="External"/><Relationship Id="rId3" Type="http://schemas.openxmlformats.org/officeDocument/2006/relationships/hyperlink" Target="http://www.pbs.org/wgbh/buildingbig" TargetMode="External"/><Relationship Id="rId4" Type="http://schemas.openxmlformats.org/officeDocument/2006/relationships/hyperlink" Target="http://www.smogcity.com/" TargetMode="External"/><Relationship Id="rId5" Type="http://schemas.openxmlformats.org/officeDocument/2006/relationships/hyperlink" Target="http://www.plimoth.org/education/olc/index_js2.html" TargetMode="External"/><Relationship Id="rId6" Type="http://schemas.openxmlformats.org/officeDocument/2006/relationships/hyperlink" Target="http://www.primaryaccess.org/" TargetMode="External"/><Relationship Id="rId7" Type="http://schemas.openxmlformats.org/officeDocument/2006/relationships/hyperlink" Target="http://www.bkfk.com/howtoinvent" TargetMode="External"/><Relationship Id="rId8" Type="http://schemas.openxmlformats.org/officeDocument/2006/relationships/hyperlink" Target="http://meted.ucar.edu/hurrican/strike/index.htm" TargetMode="External"/><Relationship Id="rId9" Type="http://schemas.openxmlformats.org/officeDocument/2006/relationships/hyperlink" Target="http://www.explorelearning.com/" TargetMode="External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H:/Summer%20Conference/2010/My%20Sessions/analogies.pdf" TargetMode="External"/><Relationship Id="rId2" Type="http://schemas.openxmlformats.org/officeDocument/2006/relationships/hyperlink" Target="http://www.mindmeister.com/" TargetMode="External"/><Relationship Id="rId3" Type="http://schemas.openxmlformats.org/officeDocument/2006/relationships/hyperlink" Target="http://www.bubbl.us/index" TargetMode="External"/><Relationship Id="rId4" Type="http://schemas.openxmlformats.org/officeDocument/2006/relationships/hyperlink" Target="http://bubbl.us/view.php?sid=684585&amp;pw=yaU.Q85sn8J4EMzVHSmFzVklBNEZNSQ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2590560"/>
            <a:ext cx="5791320" cy="16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5cc"/>
                </a:solidFill>
                <a:latin typeface="Calibri"/>
              </a:rPr>
              <a:t>Integrating Technology and Marzano’s Instructional Strateg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600200" y="12193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422f"/>
                </a:solidFill>
                <a:latin typeface="Calibri"/>
              </a:rPr>
              <a:t>Presented by Jayme L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rcRect l="8926" t="2779" r="8494" b="94755"/>
          <a:stretch/>
        </p:blipFill>
        <p:spPr>
          <a:xfrm>
            <a:off x="76320" y="6629400"/>
            <a:ext cx="90676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5257440"/>
            <a:ext cx="749772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mmary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380880"/>
            <a:ext cx="3657600" cy="4664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pts/F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8"/>
          <p:cNvSpPr/>
          <p:nvPr/>
        </p:nvSpPr>
        <p:spPr>
          <a:xfrm>
            <a:off x="5257800" y="380880"/>
            <a:ext cx="3657600" cy="4664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linguistic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b Tools fo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mmarizing and Note T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Collaborative not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NCTIES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ikispaces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ow.ly/25rW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http://www.blogger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http://sarahplainandtall.blogspot.com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no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evernote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p text and images from the w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dio, webcam, text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inforcing Effor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plays a key role in the learning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rubr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spreadshee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rack effort and achie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rate their own effort and record in a spreadshe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students with grades for each task based on criteria for assig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enter grades in spreadsheet, then create a graph to show correlation between effort and achie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viding Recogn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recognition through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gital student portfoli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ertificate templ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dca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diobo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audioboo.f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, students, and parents can record podcast and share with cl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deo messag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ki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voki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podcasting, create a video message to provide recognition for stud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Jayme\AppData\Local\Microsoft\Windows\Temporary Internet Files\Content.IE5\53MQ4SU4\MC900353064[1].wmf"/>
          <p:cNvPicPr/>
          <p:nvPr/>
        </p:nvPicPr>
        <p:blipFill>
          <a:blip r:embed="rId3"/>
          <a:stretch/>
        </p:blipFill>
        <p:spPr>
          <a:xfrm rot="1102800">
            <a:off x="5277960" y="1755360"/>
            <a:ext cx="32608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 and Pract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students opportunities to deepen their understanding of and proficiency with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e the purpose of homework an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feedback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need a lot of practice to achieve mas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 and Pract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Virtual manipul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Interactive EOG &amp; E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GeoGeb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Math 5 L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XL Math Pract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K-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Into the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ReadWriteTh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Magnetic Poe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95680" y="1676520"/>
            <a:ext cx="41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FOSS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EdH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inPop – movies and quiz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Iknowthat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Flashcard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E-Learning for K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K-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nlinguistic Represen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linguistic &amp; nonlinguistic representations of content to increase understanding and reten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significantly increase learning, involve students in creating nonlinguistic represent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ple applicat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clip art and photos to notes, vocabulary, word w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y video clips and slidesh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presentation software for les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te’s PowerPoint Station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pppst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nlinguistic Represen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Animat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goanimate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tranorma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xtranormal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o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www.animoto.com/edu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Earth and Google Lit Trip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http://earth.google.com/intl/en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http://www.googlelittrip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ice Threa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http://voicethread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perative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24280" y="1676160"/>
            <a:ext cx="4160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a variety of group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ter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l Grou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nk-Pair-Sh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rn to your neigh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l Grou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uided Rea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-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 Grou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ng te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mero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C:\Documents and Settings\Staff\Local Settings\Temporary Internet Files\Content.IE5\9FU1IUA6\MC900071120[1].wmf"/>
          <p:cNvPicPr/>
          <p:nvPr/>
        </p:nvPicPr>
        <p:blipFill>
          <a:blip r:embed="rId1"/>
          <a:stretch/>
        </p:blipFill>
        <p:spPr>
          <a:xfrm>
            <a:off x="990720" y="1676520"/>
            <a:ext cx="2895480" cy="2949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304920" y="4952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r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expectations for cooperative learning and evaluate group co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perative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chnology-based cooperative learning experienc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dmodo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edmodo.c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ltimedia proj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deo creation and ed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s ca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kispa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kyp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Ways to Use Skype in the Classro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ow.ly/24Vk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als Global Communit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www.epals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bout Jayme Lin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or of Teacher Education, Lenoir-Rhyne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Technology Facilita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Staff Development Coordinator, Newton-Conover City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toral student at UNC-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ught elementary for 6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Coach for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4" descr="Family.jpg"/>
          <p:cNvPicPr/>
          <p:nvPr/>
        </p:nvPicPr>
        <p:blipFill>
          <a:blip r:embed="rId1"/>
          <a:stretch/>
        </p:blipFill>
        <p:spPr>
          <a:xfrm>
            <a:off x="4952880" y="1828800"/>
            <a:ext cx="4038840" cy="2692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572000" y="4724280"/>
            <a:ext cx="4191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343400" y="4648320"/>
            <a:ext cx="480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cc"/>
                </a:solidFill>
                <a:latin typeface="Calibri"/>
              </a:rPr>
              <a:t>Twitter: @jaymeli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cc"/>
                </a:solidFill>
                <a:latin typeface="Calibri"/>
              </a:rPr>
              <a:t>Skype: jaymeli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cc"/>
                </a:solidFill>
                <a:latin typeface="Calibri"/>
              </a:rPr>
              <a:t>http://techtipsforteachersblog.blog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cc"/>
                </a:solidFill>
                <a:latin typeface="Calibri"/>
              </a:rPr>
              <a:t>http://ipadsinschool.blog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tting Objectives &amp;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viding Feedback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learn best when they know the goals or objectives of a lesson or learning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do thi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senti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br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43862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gital learning goals are easily shared with parents and easy to access later for progress monitoring, reflection, and evalu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ectronic KW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bit.ly/kwlchar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rning contra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using Google Docs Form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ow.ly/25sJw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Spreadsheet for resul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log or Wallwisher for brainstor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t topic prior to lesson, unit, text reading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Data and goal-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tool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socrativ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polleverywher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wallwisher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7" descr="socrative-logo.png"/>
          <p:cNvPicPr/>
          <p:nvPr/>
        </p:nvPicPr>
        <p:blipFill>
          <a:blip r:embed="rId6"/>
          <a:stretch/>
        </p:blipFill>
        <p:spPr>
          <a:xfrm>
            <a:off x="5029200" y="1905120"/>
            <a:ext cx="355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viding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ffective feedback enhances student achieveme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bric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Tea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log - Use comments for feedbac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assroom web page - Use as digital portfolio for students. Teachers, students, and parents can leave comments for feedback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oice Thread – leave voice or text comm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ents in Google Docs or Microsoft Word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mhslibrary.org/Teacher%20Projects/Teacher%20Projects/Teams/Gummis/rubric.gif"/>
          <p:cNvPicPr/>
          <p:nvPr/>
        </p:nvPicPr>
        <p:blipFill>
          <a:blip r:embed="rId3"/>
          <a:stretch/>
        </p:blipFill>
        <p:spPr>
          <a:xfrm>
            <a:off x="6553080" y="2133720"/>
            <a:ext cx="198144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ting and Testing Hypothe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6 types of task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s Analysis (Predict what might happen if one part of a system change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 Solving (Focus on unstructured, real life problems that may have more than one solution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 Making (Make a prediction and weigh it against other possible alternative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ical Investigation (“What really happened?” “Why did this happen?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mental Inquiry (Not only used in science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ntion (“Shouldn’t there be a better way to…?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ting and Testing Hypothe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adshe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 Exc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ect and analyze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e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dec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istorical Imag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4495680" y="1819440"/>
            <a:ext cx="398952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ting and Testing Hypothe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EdH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NOVA Building B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Smog 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Plimoth Plantation’s You Are the Histor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rimary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y Kids for Kids: How to In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Hurricane Strik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Explore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oo Matchma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war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ues, Questions, and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dvance Organiz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es: Explicit hints about what students are going to learn or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watchknow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brainpop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cipation gu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http://bit.ly/anticipationgui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www.michellehenry.fr/brainpop.jpg"/>
          <p:cNvPicPr/>
          <p:nvPr/>
        </p:nvPicPr>
        <p:blipFill>
          <a:blip r:embed="rId1"/>
          <a:stretch/>
        </p:blipFill>
        <p:spPr>
          <a:xfrm>
            <a:off x="4800600" y="2590920"/>
            <a:ext cx="4213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ues, Questions, and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dvance Organiz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help students access prior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llwis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c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ebra problems on Twi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wallwisher.jpg"/>
          <p:cNvPicPr/>
          <p:nvPr/>
        </p:nvPicPr>
        <p:blipFill>
          <a:blip r:embed="rId1"/>
          <a:stretch/>
        </p:blipFill>
        <p:spPr>
          <a:xfrm>
            <a:off x="4724280" y="2362320"/>
            <a:ext cx="3765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es, Questions, and  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 Organizers help students classify and make sense of content and set a 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 organizer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ve graphic organizers: http://bit.ly/graph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 Word – SmartArt 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dspiration/In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mindmeister.c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bbl.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-taking guide for multi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ssroom Instruction that 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Content Placeholder 4" descr="Handbook-for-Classroom-Instruction-That-Works-Marzano-Robert-J-9780871205223.jpg"/>
          <p:cNvPicPr/>
          <p:nvPr/>
        </p:nvPicPr>
        <p:blipFill>
          <a:blip r:embed="rId1"/>
          <a:stretch/>
        </p:blipFill>
        <p:spPr>
          <a:xfrm>
            <a:off x="4965840" y="1676520"/>
            <a:ext cx="3403440" cy="44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lassroom-Instruction-That-Works-Marzano-Robert-J-9780871205049.jpg"/>
          <p:cNvPicPr/>
          <p:nvPr/>
        </p:nvPicPr>
        <p:blipFill>
          <a:blip r:embed="rId2"/>
          <a:stretch/>
        </p:blipFill>
        <p:spPr>
          <a:xfrm>
            <a:off x="838080" y="1676520"/>
            <a:ext cx="35211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tact 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yme.linton@lr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itter: @jaymelin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ype: jaymelin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echtipsforteachersblog.blogspo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padsinschool.blogspo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04920" y="380880"/>
          <a:ext cx="8458200" cy="6019920"/>
        </p:xfrm>
        <a:graphic>
          <a:graphicData uri="http://schemas.openxmlformats.org/drawingml/2006/table">
            <a:tbl>
              <a:tblPr/>
              <a:tblGrid>
                <a:gridCol w="5481360"/>
                <a:gridCol w="1646280"/>
                <a:gridCol w="1330560"/>
              </a:tblGrid>
              <a:tr h="6019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ructional Strate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 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ile g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ying similarities &amp; differ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izing and note t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inforcing effort &amp; providing recog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mework and Pract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linguistic represen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operative lear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ting objectives and providing feedb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ting &amp; testing hypo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uestions, cues, and advance organ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dentifying Similarities &amp; Dif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roces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ing ana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s student restructure their understanding of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s students to make new connections and correct miscon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graphic and symbolic representations to give students support and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dentifying Similarities and Differenc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rtArt grap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Clipar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analogies and metap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Exc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ping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dspiration/Inspi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mindmeister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bubbl.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452520"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Classify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5"/>
          <a:stretch/>
        </p:blipFill>
        <p:spPr>
          <a:xfrm>
            <a:off x="4800600" y="1219320"/>
            <a:ext cx="4160880" cy="332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6"/>
          <a:stretch/>
        </p:blipFill>
        <p:spPr>
          <a:xfrm>
            <a:off x="4343400" y="4038480"/>
            <a:ext cx="4446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mmarizing &amp; Note-T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hance students' ability to synthesize information and distill it into a concise new fo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 need specific summarizing and note-taking techniq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crosoft Office for summarizing and note-taking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rack Changes in Word to teach summarizing tech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uto Summarize to compare student summaries with computer 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 for combination notes (two-content layo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839880" y="533520"/>
            <a:ext cx="738972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7:55:13Z</dcterms:created>
  <dc:creator>infosourcelearning</dc:creator>
  <dc:description/>
  <dc:language>en-US</dc:language>
  <cp:lastModifiedBy>Jayme</cp:lastModifiedBy>
  <dcterms:modified xsi:type="dcterms:W3CDTF">2012-06-05T16:11:28Z</dcterms:modified>
  <cp:revision>187</cp:revision>
  <dc:subject/>
  <dc:title>Slide 1</dc:title>
</cp:coreProperties>
</file>